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2EB-1D8D-440A-A323-AD94E216647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48C-3E1C-4671-9A61-549E4E40BD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B8B-BBD8-4099-ACC7-0E52D56699B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174-7FD8-4958-898B-AA5C940D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ED1-9C66-40DC-994D-C342DFC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0F7-8307-42D8-9E37-8AF66E74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FFA-4D23-4031-95E0-7E5D1CEC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9DE0-A424-4969-AAAA-92D5C155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3417-A5C2-4DC1-830E-4703C147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298D-83C0-45A6-AF7D-1281E569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2939-7A2D-4E2E-87F4-AD728A1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515-30CB-41C1-A764-51E8291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9E7F-E548-4B66-9A34-CF155D64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132D-5563-48A6-BDB4-3C443CD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EC9-772E-44D2-934A-2524C7BC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4401-F9EF-464D-B275-4F8AF8D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AE1A-3C0D-4831-9837-41C8B97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4BB-7024-4458-BA4E-823369F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93F8-4779-46BF-91F7-B1472BE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D8A-2C0E-43CA-8181-43596C54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7FDE-8A11-40E1-A94B-917DD710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6B3A-B15F-48D3-A7B7-5ACCC1BF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1CCC-D3D1-4BA9-BC5E-ED2BB4B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8323-B98E-405B-95E9-4C70D6D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3B8D-7606-4D3D-97A4-1112D9A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DCD-59B0-48FB-A39C-2BDC5AEF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3DC3-1289-41C1-8CBF-B4C324D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460D-7377-437D-AADF-9DB27EC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89E2-5C01-44C9-9249-08D7CD9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320E-5A4A-4209-AFE2-88AA086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68C4-5F87-48CB-9566-9CE28A18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EAD0-E731-4308-AFF4-027F049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C738-8261-4A72-934B-1DB03516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D558F-8203-47AE-9A3F-D775A3EE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B52A-FD64-43E3-9410-0C531F6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9B30-B436-41C6-8473-2A6CEC7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E19-F4C7-46ED-9A52-A695F7F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AF43-4F28-4CC6-8B14-B6DE762E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5A2D-47AD-4F27-9A54-FC58AE5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F9DF-2A8E-4D3A-830B-98DFA7A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793E-8B40-43BE-BB65-7D82014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44EF-7F27-4A1C-8841-3C7E26D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F541-069A-48EE-99ED-8B6AC7E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94BE-F2CD-409A-A9E8-C71E6BA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D335-36F9-4F9A-8FAD-6982902A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61CC-5300-4351-B803-D4B01637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C35-1ACB-4C92-90C5-B764347C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C93-7F1B-48CC-9DB3-F25A102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551-BC9A-4CE2-A936-680F4EB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EB4-433E-426E-A624-A1FC95BB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816-F9D0-4CA3-BB34-7DD53A2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45B-9880-4FCA-9B71-4787DE3AF0B4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83F-426D-4AC0-BEB3-8891CF7D5DD9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C530-9185-449A-B831-890C4EF435E5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F14-8AE0-450D-9F09-B5F14052CDC9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rcRect l="0" t="13380" r="0" b="0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060280"/>
            <a:ext cx="47512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ur students do not have a lot of time off school, since many of them attend lessons for 32 - 34 hours a week, and yet several choose to attend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extra lessons and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prepare for international English language exams (PET, FCE, TOEIC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take ECDL exam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train for sporting event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prepare theatre show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287964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292720" y="436572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989000"/>
            <a:ext cx="43308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ur students participate in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international projec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exchanges, sponsored by the EU or by other agencies (e.g. the British Council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ny participate in local, national or even international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contes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relating to the fields of textile design, textile technology and chemistry, often with excellent results and extensive recogni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879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989000"/>
            <a:ext cx="43308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ny of our students actively participate in events to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promote the scho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its servic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yearly “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open da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”, when the school opens to prospective students and their famili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annual “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creativity da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”, where schools present their field of study through creative produ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hows and exhibi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students’ produ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local ev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880000" cy="2379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8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2879640" cy="216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4"/>
          <a:stretch/>
        </p:blipFill>
        <p:spPr>
          <a:xfrm>
            <a:off x="1403280" y="436572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81520" indent="-2671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stituto di Setific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born in 1869 as a school for workers of the silk indust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became a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ate Schoo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1903 thanks to senator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Paolo Carcan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whom it was later named af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963 it was transformed into  a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Technical High School (Istituto Tecnico Industriale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ering three specializations: Chemistry, Design and Textile Technolo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975 it moved to its current premi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Segnaposto contenuto 6" descr="a_67.preview.jpg"/>
          <p:cNvPicPr/>
          <p:nvPr/>
        </p:nvPicPr>
        <p:blipFill>
          <a:blip r:embed="rId1"/>
          <a:stretch/>
        </p:blipFill>
        <p:spPr>
          <a:xfrm>
            <a:off x="5124600" y="1844640"/>
            <a:ext cx="2976480" cy="2225880"/>
          </a:xfrm>
          <a:prstGeom prst="rect">
            <a:avLst/>
          </a:prstGeom>
          <a:ln w="0">
            <a:noFill/>
          </a:ln>
        </p:spPr>
      </p:pic>
      <p:pic>
        <p:nvPicPr>
          <p:cNvPr id="206" name="Immagine 7" descr="facciata_0.jpg"/>
          <p:cNvPicPr/>
          <p:nvPr/>
        </p:nvPicPr>
        <p:blipFill>
          <a:blip r:embed="rId2"/>
          <a:stretch/>
        </p:blipFill>
        <p:spPr>
          <a:xfrm>
            <a:off x="5219640" y="4221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87280" indent="-27288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udents who enrolled before 2010 could choose between the three traditional courses  with further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pecializ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Chemistry: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cloth dyeing, environmental chemistry and food chemistr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Desig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 art design, textile design and graphic desig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52320" indent="-24588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Textile Technolog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ourses of a new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Senior High School for Science Educ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Liceo Scientifico) were added in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200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Segnaposto contenuto 12" descr="a_27.preview.jpg"/>
          <p:cNvPicPr/>
          <p:nvPr/>
        </p:nvPicPr>
        <p:blipFill>
          <a:blip r:embed="rId1"/>
          <a:stretch/>
        </p:blipFill>
        <p:spPr>
          <a:xfrm>
            <a:off x="5364000" y="414972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210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364000" y="1898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4920" y="1989000"/>
            <a:ext cx="41022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78640" indent="-26460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ew options after the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reform of the school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r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in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Chemistry of Materials and Biotechnologies</a:t>
            </a:r>
            <a:r>
              <a:rPr b="0" lang="en-US" sz="19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Fash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specializing in textile design and textile technolog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echnica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Graphic Design and Communic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 algn="just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enior High School course for </a:t>
            </a:r>
            <a:r>
              <a:rPr b="1" lang="en-US" sz="1900" spc="-1" strike="noStrike">
                <a:solidFill>
                  <a:srgbClr val="04617b"/>
                </a:solidFill>
                <a:latin typeface="Constantia"/>
              </a:rPr>
              <a:t>Science Educ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with the possibility of choosing between Latin or IC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2520" indent="-23832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8640" indent="-264600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879640" cy="2165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879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What we of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lso offer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evening class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older students who want to obtain a High School diploma by taking the official State Exams at the end of three yea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urse in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Chemistry of Cloth Dye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urse in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extile Techn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Segnaposto contenuto 13" descr="serale10.jpg"/>
          <p:cNvPicPr/>
          <p:nvPr/>
        </p:nvPicPr>
        <p:blipFill>
          <a:blip r:embed="rId1"/>
          <a:stretch/>
        </p:blipFill>
        <p:spPr>
          <a:xfrm>
            <a:off x="5114880" y="192096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chool and its terri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920" y="198864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0000"/>
          </a:bodyPr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ur school has always had very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rong ti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our city’s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industrial 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the final three years, either in summer or during the year, 85% of our students have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working experienc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local compan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end of school, the students who do not go to university usually find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work in local compani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elating to the field they specialized i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8480" indent="-245520" algn="just">
              <a:lnSpc>
                <a:spcPct val="8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921040" cy="2032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94920" y="4292280"/>
            <a:ext cx="4753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large percentage of our students continue their studies at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universit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higher educ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urses, either in Como itselfor in Milan, and then go on to find work in local compan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87280" indent="-272880" algn="just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chool and its terri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1915920"/>
            <a:ext cx="8209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Setificio Found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as established in 1994 by silk industry entrepreneurs of the Como area  to support the activities of the school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ce then the Foundation has provided the school with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state of the art too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laboratori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s well as promoted projects to improve teaching and train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Foundation directly finances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Higher Education cours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in Textile Technology, Textile Design, Textile CAD and Chemistry, with working experience at local compan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 algn="just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jects with local Vocational Schools and Universities are also promoted, such as the one which is currently taking place in collaboration with the Milan University Institute of Engineering concerning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digital printing techni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040" indent="-2358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6172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egnaposto contenuto 5"/>
          <p:cNvSpPr/>
          <p:nvPr/>
        </p:nvSpPr>
        <p:spPr>
          <a:xfrm>
            <a:off x="5003640" y="4365720"/>
            <a:ext cx="352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itolo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Segnaposto contenuto 5"/>
          <p:cNvSpPr/>
          <p:nvPr/>
        </p:nvSpPr>
        <p:spPr>
          <a:xfrm>
            <a:off x="5003640" y="4221000"/>
            <a:ext cx="3529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915920"/>
            <a:ext cx="433080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chool currently has </a:t>
            </a:r>
            <a:r>
              <a:rPr b="1" lang="en-US" sz="2200" spc="-1" strike="noStrike">
                <a:solidFill>
                  <a:srgbClr val="0b5395"/>
                </a:solidFill>
                <a:latin typeface="Constantia"/>
              </a:rPr>
              <a:t>830 studen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661 of whom are enrolled in the Technical Courses, 111 have chosen the Senior High School and 58 attend the evening class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udents live in the area of Como and its province, including villages on the Lake. Many have relatives who studied at our school to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st students come from middle-class or working-class backgrou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879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Our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915920"/>
            <a:ext cx="433080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5000"/>
          </a:bodyPr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mber of </a:t>
            </a: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students of foreign orig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been increasing over the last few yea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come from China, Turkey, Ukraine, Romania, Ghana, Sri Lanka, Peru…. A few were born here, some have been living here for a few years but several have only just arrived and have little or no Itali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ssues of language teaching for the newly arrived and of integration for the others are tackled through specific ac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879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6:07:55Z</dcterms:created>
  <dc:creator> </dc:creator>
  <dc:description/>
  <dc:language>en-US</dc:language>
  <cp:lastModifiedBy> </cp:lastModifiedBy>
  <dcterms:modified xsi:type="dcterms:W3CDTF">2010-11-05T21:57:54Z</dcterms:modified>
  <cp:revision>57</cp:revision>
  <dc:subject/>
  <dc:title>Diapositiva 1</dc:title>
</cp:coreProperties>
</file>